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3FE-4D3C-44E4-8CF9-CBDC6C73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52F-115F-424A-8E18-27F9A0C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009-B945-44C2-A758-4C4DBC85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D9D-55D8-4F89-97D7-3CBBF2DD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8B13-51DA-479E-8ADE-7C2FC8BD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F8B-9D5B-44F1-9EB1-E31EFF0D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656-EA84-46A1-A9C9-E3B32C6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CEDA-5A22-4078-87D8-16E9FB8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055F-3731-4CEB-A563-D8D5C36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493-EC06-4791-895A-1924A5FF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4B21-D078-402E-823E-A1BE46D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200-5860-4D85-AA52-A8BC364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8EB1-10D0-47D7-B23B-2FEB1EC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F925-3E83-4700-8CED-2366FF0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786-DD57-4696-BEA8-01A6D544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ED94-DBC8-491D-8E96-3D33EEBE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9702-CF36-44C2-A55F-63D45F8B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653A-BE9E-420A-9890-37A16541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1F42-ADDE-4491-B169-5DDAF07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3EBA-A66E-414C-A1BE-10B748E9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ABA5-6511-4B19-9D42-E19DF89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3F1E-F47B-4DD2-A912-5B46B760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E6B-9C32-4936-ACC7-243C7076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05B9-46AD-4EC3-8857-B8BD6338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C9DD-89B9-44F9-82DC-6DBF64C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05D2-0EFC-4937-848A-281F17A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4656-EA51-4707-9838-B56116DB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C835-9251-40EC-BDFF-D35AEE0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8E4E-B581-4540-B6FA-FA2743E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CAD8-D53C-47A4-93F4-3202816E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A70C-12F8-4CA0-BD6A-F1C9CEB9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73EE-FA12-4F0B-82E3-C06FCA2F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ECCB-A0FE-44B1-93B2-614E6EF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790-DC9C-4351-8F12-D2310D93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BC5F-C99F-4459-80D2-ABF353C8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1D26-F9E1-4B48-938D-682E106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5E3C-9761-4071-9F60-FACE9B8E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EE73-D493-49D1-A5FB-9704A14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0B9E-CB98-4BF0-9A62-8946FC6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2637-54DE-4664-B254-B41BD268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CB91-D638-42BA-8B58-C222435C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6DD5-5FA4-4F8E-B8B6-158E7DE5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EA21-81B1-4819-9C19-3B07C8E3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63404-2CEF-46CE-A060-47142177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22F-0336-401F-8AB3-86D0A3B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104D-9B09-46E8-92E6-5A3B6DD4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3734-7C29-49A0-B715-D4BA5BE8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B23E-615D-4945-AFC8-75405D8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E752-B548-4004-A3FA-238B8EB9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8D77-E729-4203-B407-B5E8E6A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32BE-1275-4086-8834-0ADDD6F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346C-1282-46E0-8F0D-F1F928C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2E8D-3092-4AF9-9148-4FF4C0D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9ABC-760F-4D4F-9C5B-E3C02F2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9365-37FB-47C1-90BB-5412C8A8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77A-865B-4D74-9D01-349C2E3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F401-1AC2-4E65-A206-03D24D04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D7558-B06B-4248-A06F-EC7B8455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9EE2E-837F-48D4-B39E-1B2CEC28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C883D-A5E9-456F-8280-11FA85B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E2E0-AD4B-431F-A411-1F379416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B1D5-C6E0-4E62-8B8A-CB6D0220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27FC4-9F55-45B9-8756-21F76260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9168-15B6-4B5E-823B-825D330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77D25-EE19-4B27-80E1-2981114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98C6-969E-4FF2-956D-7720148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8B5-53AF-4A63-A51B-27024C5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2CD5-4BA8-4DB6-8CE0-07EE8DD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85D2-A32F-4FC7-AE92-6C0C2DAD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3056-B02B-4410-945C-5A7D2F17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C63F-48AA-4297-85F5-A06F489B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A482-53E4-47DA-B80A-66614AB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E0CE-AD6E-4C91-83B6-33EC8573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3906-B1E9-44DF-BD60-AC68305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C33CE-60A7-4338-AA56-F34135BB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ABE6A-9D0B-42F4-93CD-8C92E7E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9460-BDFE-4EDD-9955-ADD5A5B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9CE-58E0-4F9B-828A-22F9D85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9F918-C957-4986-BE2F-1B2103E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9E3D-9EA8-4691-8732-13F3192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1613-4921-44BE-9D27-3242FEF5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409AC-1BF1-4CBC-814C-71EAD87D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EA151-A6AB-4A5B-A030-661A76DA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2D5-8644-4423-9EAA-7EF5E80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C2D0-1C4C-4A76-A3BD-04DE0F186198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9B40-6145-44FB-8994-FA9EAFB8C236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A9D9-5FB5-4908-BB75-A2690C16FA09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689C-AE89-4C23-AB9C-1789B4C2B63F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ED92-2668-4159-8F7E-4BD8D137C6D9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3452-A2A6-4BED-B51E-0CEFC5918690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EA05-49DD-4AE4-B3A9-EAA03FDA3B79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26920" y="2276280"/>
            <a:ext cx="7453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CITOCROMOS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Sistemas de transporte de electron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MI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Reserva de oxígeno en músculo esquelético y cardíac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HEM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Transporte de Oxígeno a los tej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Importancia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Tiene lugar en células del SRE: Hígado, bazo y médula óse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Se transporta al hígado unida a haptoglob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La globina se degrada a aminoác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El Hemo se convierte en pigmentos biliares: Bilirrubina y Biliverd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DEGRADACION DE HEMOGLO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684360" y="3357720"/>
            <a:ext cx="1439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059280" y="1916280"/>
            <a:ext cx="100944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411280" y="4941720"/>
            <a:ext cx="331308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otoporfirin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643280" y="1125360"/>
            <a:ext cx="172908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ci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643280" y="2852640"/>
            <a:ext cx="216072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mac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7704000" y="2852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Ferri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659640" y="5516640"/>
            <a:ext cx="2160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72360" y="4005360"/>
            <a:ext cx="172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ARRWC031"/>
          <p:cNvPicPr/>
          <p:nvPr/>
        </p:nvPicPr>
        <p:blipFill>
          <a:blip r:embed="rId2"/>
          <a:stretch/>
        </p:blipFill>
        <p:spPr>
          <a:xfrm rot="2844000">
            <a:off x="2117880" y="3933720"/>
            <a:ext cx="1366920" cy="681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ARRWC031"/>
          <p:cNvPicPr/>
          <p:nvPr/>
        </p:nvPicPr>
        <p:blipFill>
          <a:blip r:embed="rId3"/>
          <a:stretch/>
        </p:blipFill>
        <p:spPr>
          <a:xfrm rot="18587400">
            <a:off x="2124000" y="2707920"/>
            <a:ext cx="1366920" cy="68076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 flipV="1">
            <a:off x="4211640" y="162864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4255200" y="230004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"/>
          <p:cNvSpPr/>
          <p:nvPr/>
        </p:nvSpPr>
        <p:spPr>
          <a:xfrm flipV="1">
            <a:off x="5796000" y="458136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7704000" y="4582080"/>
            <a:ext cx="135360" cy="71352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1844640"/>
            <a:ext cx="813600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DEL SRE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Hb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HEPATICA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 Conjugación de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INTESTINAL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Reducción de   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 y producción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de esterc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DEGRADACIO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4356000" y="21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EN EL  SR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7272360" y="1730520"/>
            <a:ext cx="1150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7145280" y="2548080"/>
            <a:ext cx="1657440" cy="88884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reutiliz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714920" y="1839960"/>
            <a:ext cx="216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glo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4559400" y="2832120"/>
            <a:ext cx="1871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as hemo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1"/>
          <p:cNvSpPr/>
          <p:nvPr/>
        </p:nvSpPr>
        <p:spPr>
          <a:xfrm>
            <a:off x="4356000" y="530064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3"/>
          <p:cNvSpPr/>
          <p:nvPr/>
        </p:nvSpPr>
        <p:spPr>
          <a:xfrm>
            <a:off x="5364000" y="5207040"/>
            <a:ext cx="151164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H + 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4"/>
          <p:cNvSpPr/>
          <p:nvPr/>
        </p:nvSpPr>
        <p:spPr>
          <a:xfrm>
            <a:off x="5651640" y="5823000"/>
            <a:ext cx="93636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5"/>
          <p:cNvSpPr/>
          <p:nvPr/>
        </p:nvSpPr>
        <p:spPr>
          <a:xfrm flipH="1" rot="15221400">
            <a:off x="4728240" y="5486040"/>
            <a:ext cx="652680" cy="754200"/>
          </a:xfrm>
          <a:custGeom>
            <a:avLst/>
            <a:gdLst>
              <a:gd name="textAreaLeft" fmla="*/ 76680 w 652680"/>
              <a:gd name="textAreaRight" fmla="*/ 460440 w 65268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108" hR="21600" stAng="10800000" swAng="5400000"/>
                <a:lnTo>
                  <a:pt x="12698" y="0"/>
                </a:lnTo>
                <a:arcTo wR="5108" hR="21600" stAng="-5400000" swAng="2285833"/>
                <a:lnTo>
                  <a:pt x="21382" y="15363"/>
                </a:lnTo>
                <a:lnTo>
                  <a:pt x="14010" y="21600"/>
                </a:lnTo>
                <a:lnTo>
                  <a:pt x="6202" y="15363"/>
                </a:lnTo>
                <a:lnTo>
                  <a:pt x="9997" y="15363"/>
                </a:lnTo>
                <a:arcTo wR="5108" hR="21600" stAng="-3114167" swAng="-1403274"/>
                <a:lnTo>
                  <a:pt x="8903" y="7144"/>
                </a:lnTo>
                <a:arcTo wR="5108" hR="21600" stAng="-6282559" swAng="-4517441"/>
                <a:close/>
              </a:path>
              <a:path fill="darkenLess" w="21600" h="21600">
                <a:moveTo>
                  <a:pt x="0" y="21600"/>
                </a:moveTo>
                <a:arcTo wR="5108" hR="21600" stAng="10800000" swAng="5400000"/>
                <a:lnTo>
                  <a:pt x="5108" y="0"/>
                </a:lnTo>
                <a:arcTo wR="5108" hR="21600" stAng="-5400000" swAng="882559"/>
                <a:lnTo>
                  <a:pt x="8903" y="7144"/>
                </a:lnTo>
                <a:arcTo wR="5108" hR="21600" stAng="-6282559" swAng="-4517441"/>
                <a:close/>
              </a:path>
            </a:pathLst>
          </a:cu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7" descr=""/>
          <p:cNvPicPr/>
          <p:nvPr/>
        </p:nvPicPr>
        <p:blipFill>
          <a:blip r:embed="rId1"/>
          <a:stretch/>
        </p:blipFill>
        <p:spPr>
          <a:xfrm>
            <a:off x="826920" y="1109520"/>
            <a:ext cx="2694240" cy="5675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9"/>
          <p:cNvSpPr/>
          <p:nvPr/>
        </p:nvSpPr>
        <p:spPr>
          <a:xfrm>
            <a:off x="-36360" y="2637000"/>
            <a:ext cx="20160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2987640" y="191628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 Flecha derecha"/>
          <p:cNvSpPr/>
          <p:nvPr/>
        </p:nvSpPr>
        <p:spPr>
          <a:xfrm>
            <a:off x="6877080" y="1913040"/>
            <a:ext cx="395280" cy="23796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3 Flecha abajo"/>
          <p:cNvSpPr/>
          <p:nvPr/>
        </p:nvSpPr>
        <p:spPr>
          <a:xfrm>
            <a:off x="7846920" y="2151000"/>
            <a:ext cx="185760" cy="397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4 Flecha izquierda"/>
          <p:cNvSpPr/>
          <p:nvPr/>
        </p:nvSpPr>
        <p:spPr>
          <a:xfrm>
            <a:off x="4067280" y="2070000"/>
            <a:ext cx="647640" cy="2793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6 Flecha curvada hacia arriba"/>
          <p:cNvSpPr/>
          <p:nvPr/>
        </p:nvSpPr>
        <p:spPr>
          <a:xfrm flipH="1" rot="2496600">
            <a:off x="3367800" y="2680560"/>
            <a:ext cx="1211400" cy="560880"/>
          </a:xfrm>
          <a:custGeom>
            <a:avLst/>
            <a:gdLst>
              <a:gd name="textAreaLeft" fmla="*/ 249840 w 1211400"/>
              <a:gd name="textAreaRight" fmla="*/ 890640 w 1211400"/>
              <a:gd name="textAreaTop" fmla="*/ 74880 h 560880"/>
              <a:gd name="textAreaBottom" fmla="*/ 486000 h 56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-3480135"/>
                <a:lnTo>
                  <a:pt x="21317" y="5400"/>
                </a:lnTo>
                <a:lnTo>
                  <a:pt x="19102" y="0"/>
                </a:lnTo>
                <a:lnTo>
                  <a:pt x="16320" y="5400"/>
                </a:lnTo>
                <a:lnTo>
                  <a:pt x="17569" y="5400"/>
                </a:lnTo>
                <a:arcTo wR="8926" hR="21600" stAng="1919865" swAng="3279522"/>
                <a:lnTo>
                  <a:pt x="10176" y="21387"/>
                </a:lnTo>
                <a:arcTo wR="8926" hR="21600" stAng="5600614" swAng="5199386"/>
                <a:close/>
              </a:path>
              <a:path fill="darkenLess"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200614"/>
                <a:lnTo>
                  <a:pt x="10176" y="21387"/>
                </a:lnTo>
                <a:arcTo wR="8926" hR="21600" stAng="5600614" swAng="5199386"/>
                <a:close/>
              </a:path>
            </a:pathLst>
          </a:cu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-11160" y="4365720"/>
            <a:ext cx="19908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421080" y="4797360"/>
            <a:ext cx="1511280" cy="398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ver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419640" y="6272280"/>
            <a:ext cx="18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 Elipse"/>
          <p:cNvSpPr/>
          <p:nvPr/>
        </p:nvSpPr>
        <p:spPr>
          <a:xfrm>
            <a:off x="1619280" y="2276640"/>
            <a:ext cx="28872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5 Elipse"/>
          <p:cNvSpPr/>
          <p:nvPr/>
        </p:nvSpPr>
        <p:spPr>
          <a:xfrm>
            <a:off x="1700280" y="4076640"/>
            <a:ext cx="28728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26 Elipse"/>
          <p:cNvSpPr/>
          <p:nvPr/>
        </p:nvSpPr>
        <p:spPr>
          <a:xfrm>
            <a:off x="2556000" y="2852640"/>
            <a:ext cx="287280" cy="4716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DEGRADACION DEL HEM"/>
          <p:cNvPicPr/>
          <p:nvPr/>
        </p:nvPicPr>
        <p:blipFill>
          <a:blip r:embed="rId1"/>
          <a:srcRect l="0" t="70776" r="0" b="4147"/>
          <a:stretch/>
        </p:blipFill>
        <p:spPr>
          <a:xfrm>
            <a:off x="900000" y="2986200"/>
            <a:ext cx="6696360" cy="33224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HEPATICA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Reacción de Conjugación de Bilirru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211640" y="2421000"/>
            <a:ext cx="3384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DP-Glucuron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916360" y="1628640"/>
            <a:ext cx="23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971640" y="2060640"/>
            <a:ext cx="16556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 UDP-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" descr="AD001810"/>
          <p:cNvPicPr/>
          <p:nvPr/>
        </p:nvPicPr>
        <p:blipFill>
          <a:blip r:embed="rId3"/>
          <a:stretch/>
        </p:blipFill>
        <p:spPr>
          <a:xfrm rot="19264200">
            <a:off x="3635280" y="2205000"/>
            <a:ext cx="704880" cy="825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ARROW_4"/>
          <p:cNvPicPr/>
          <p:nvPr/>
        </p:nvPicPr>
        <p:blipFill>
          <a:blip r:embed="rId4">
            <a:lum bright="50000"/>
          </a:blip>
          <a:stretch/>
        </p:blipFill>
        <p:spPr>
          <a:xfrm rot="11905800">
            <a:off x="2649600" y="238212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971640" y="6308640"/>
            <a:ext cx="66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GLUCURO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3419640" y="4437000"/>
            <a:ext cx="1223640" cy="10796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ETAPA INTESTINA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18" descr="AR100037"/>
          <p:cNvPicPr/>
          <p:nvPr/>
        </p:nvPicPr>
        <p:blipFill>
          <a:blip r:embed="rId1"/>
          <a:stretch/>
        </p:blipFill>
        <p:spPr>
          <a:xfrm>
            <a:off x="676440" y="2679840"/>
            <a:ext cx="3822480" cy="344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2" descr="AR100037"/>
          <p:cNvPicPr/>
          <p:nvPr/>
        </p:nvPicPr>
        <p:blipFill>
          <a:blip r:embed="rId2"/>
          <a:stretch/>
        </p:blipFill>
        <p:spPr>
          <a:xfrm>
            <a:off x="5435640" y="479736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900000" y="2349360"/>
            <a:ext cx="27352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Diglucuró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6516720" y="2492280"/>
            <a:ext cx="180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211640" y="2852640"/>
            <a:ext cx="18730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4140360" y="2133720"/>
            <a:ext cx="201600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curon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5651640" y="3141720"/>
            <a:ext cx="23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ido 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3"/>
          <p:cNvSpPr/>
          <p:nvPr/>
        </p:nvSpPr>
        <p:spPr>
          <a:xfrm>
            <a:off x="5076720" y="292428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39640" y="4724280"/>
            <a:ext cx="1800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2987640" y="4788000"/>
            <a:ext cx="251928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sobilirrubin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6516720" y="4829040"/>
            <a:ext cx="2376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ercobilin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>
            <a:off x="3132000" y="5589720"/>
            <a:ext cx="3743640" cy="936360"/>
          </a:xfrm>
          <a:prstGeom prst="irregularSeal1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cterias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squema de Degradació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692360" y="3357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  <a:ea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9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481" name="Freeform 13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31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485" name="Freeform 16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9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 Box 20"/>
          <p:cNvSpPr/>
          <p:nvPr/>
        </p:nvSpPr>
        <p:spPr>
          <a:xfrm>
            <a:off x="5148360" y="5048280"/>
            <a:ext cx="17985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1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0" y="6381720"/>
            <a:ext cx="244620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4600440" y="2492280"/>
            <a:ext cx="194328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2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1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2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4"/>
          <p:cNvSpPr/>
          <p:nvPr/>
        </p:nvSpPr>
        <p:spPr>
          <a:xfrm flipH="1">
            <a:off x="244800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5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7"/>
          <p:cNvSpPr/>
          <p:nvPr/>
        </p:nvSpPr>
        <p:spPr>
          <a:xfrm>
            <a:off x="5105520" y="2852640"/>
            <a:ext cx="1655640" cy="432000"/>
          </a:xfrm>
          <a:custGeom>
            <a:avLst/>
            <a:gdLst>
              <a:gd name="textAreaLeft" fmla="*/ 952560 w 1655640"/>
              <a:gd name="textAreaRight" fmla="*/ 1397160 w 165564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48"/>
          <p:cNvSpPr/>
          <p:nvPr/>
        </p:nvSpPr>
        <p:spPr>
          <a:xfrm>
            <a:off x="7956720" y="602136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49"/>
          <p:cNvSpPr/>
          <p:nvPr/>
        </p:nvSpPr>
        <p:spPr>
          <a:xfrm>
            <a:off x="324000" y="573408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0"/>
          <p:cNvSpPr/>
          <p:nvPr/>
        </p:nvSpPr>
        <p:spPr>
          <a:xfrm>
            <a:off x="0" y="2421000"/>
            <a:ext cx="197964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conjugad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IN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unida a albúm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ndara"/>
              </a:rPr>
              <a:t>DETERMINACION DE BILIRRUBINA CON FINES DIAGNOSTICO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47640" y="2657520"/>
            <a:ext cx="3019680" cy="2419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097440" cy="2077920"/>
          </a:xfrm>
          <a:prstGeom prst="rect">
            <a:avLst/>
          </a:prstGeom>
          <a:ln w="0">
            <a:noFill/>
          </a:ln>
        </p:spPr>
      </p:pic>
      <p:sp>
        <p:nvSpPr>
          <p:cNvPr id="512" name="1 CuadroTexto"/>
          <p:cNvSpPr/>
          <p:nvPr/>
        </p:nvSpPr>
        <p:spPr>
          <a:xfrm>
            <a:off x="1547640" y="1052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HIPERBILIRRU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 Flecha curvada hacia abajo"/>
          <p:cNvSpPr/>
          <p:nvPr/>
        </p:nvSpPr>
        <p:spPr>
          <a:xfrm rot="2853000">
            <a:off x="5616000" y="1541520"/>
            <a:ext cx="1973520" cy="868320"/>
          </a:xfrm>
          <a:custGeom>
            <a:avLst/>
            <a:gdLst>
              <a:gd name="textAreaLeft" fmla="*/ 411840 w 1973520"/>
              <a:gd name="textAreaRight" fmla="*/ 1452960 w 1973520"/>
              <a:gd name="textAreaTop" fmla="*/ 116280 h 868320"/>
              <a:gd name="textAreaBottom" fmla="*/ 752040 h 868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8" hR="21600" stAng="10800000" swAng="5400000"/>
                <a:lnTo>
                  <a:pt x="11395" y="0"/>
                </a:lnTo>
                <a:arcTo wR="9018" hR="21600" stAng="-5400000" swAng="3495855"/>
                <a:lnTo>
                  <a:pt x="21314" y="16200"/>
                </a:lnTo>
                <a:lnTo>
                  <a:pt x="19224" y="21600"/>
                </a:lnTo>
                <a:lnTo>
                  <a:pt x="16561" y="16200"/>
                </a:lnTo>
                <a:lnTo>
                  <a:pt x="17749" y="16200"/>
                </a:lnTo>
                <a:arcTo wR="9018" hR="21600" stAng="-1904145" swAng="-3305231"/>
                <a:lnTo>
                  <a:pt x="10206" y="188"/>
                </a:lnTo>
                <a:arcTo wR="9018" hR="21600" stAng="-5590625" swAng="-5209375"/>
                <a:close/>
              </a:path>
              <a:path fill="darkenLess" w="21600" h="21600">
                <a:moveTo>
                  <a:pt x="0" y="21600"/>
                </a:moveTo>
                <a:arcTo wR="9018" hR="21600" stAng="10800000" swAng="5400000"/>
                <a:lnTo>
                  <a:pt x="9018" y="0"/>
                </a:lnTo>
                <a:arcTo wR="9018" hR="21600" stAng="-5400000" swAng="190625"/>
                <a:lnTo>
                  <a:pt x="10206" y="188"/>
                </a:lnTo>
                <a:arcTo wR="9018" hR="21600" stAng="-5590625" swAng="-5209375"/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4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teraciones de los pigmentos derivados de hemo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Hem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520" name="Freeform 11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24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8"/>
          <p:cNvSpPr/>
          <p:nvPr/>
        </p:nvSpPr>
        <p:spPr>
          <a:xfrm rot="3768600">
            <a:off x="67604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324000" y="6308640"/>
            <a:ext cx="2446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4"/>
          <p:cNvSpPr/>
          <p:nvPr/>
        </p:nvSpPr>
        <p:spPr>
          <a:xfrm>
            <a:off x="4859280" y="2205000"/>
            <a:ext cx="1943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5"/>
          <p:cNvSpPr/>
          <p:nvPr/>
        </p:nvSpPr>
        <p:spPr>
          <a:xfrm>
            <a:off x="34480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0"/>
          <p:cNvSpPr/>
          <p:nvPr/>
        </p:nvSpPr>
        <p:spPr>
          <a:xfrm flipH="1">
            <a:off x="248292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161928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4500720" y="2060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694836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0" y="6278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2987640" y="6234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687708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5"/>
          <p:cNvSpPr/>
          <p:nvPr/>
        </p:nvSpPr>
        <p:spPr>
          <a:xfrm>
            <a:off x="90000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23640" y="2133360"/>
            <a:ext cx="4608360" cy="338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73e87"/>
                </a:solidFill>
                <a:uFillTx/>
                <a:latin typeface="Candara"/>
              </a:rPr>
              <a:t>LUGAR DE SÍNTESI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Hígad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Médula óse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Reticulocito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BIOSINTESIS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5219640" y="2205000"/>
            <a:ext cx="3527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CU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Glicin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30"/>
          <p:cNvSpPr/>
          <p:nvPr/>
        </p:nvSpPr>
        <p:spPr>
          <a:xfrm flipH="1">
            <a:off x="2843280" y="666900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5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60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7488360" y="573408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612720" y="6451560"/>
            <a:ext cx="2446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612720" y="216000"/>
            <a:ext cx="8229600" cy="9363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Insuficiencia Hep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1"/>
          <p:cNvSpPr/>
          <p:nvPr/>
        </p:nvSpPr>
        <p:spPr>
          <a:xfrm>
            <a:off x="3132000" y="3213000"/>
            <a:ext cx="1513080" cy="144000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2"/>
          <p:cNvSpPr/>
          <p:nvPr/>
        </p:nvSpPr>
        <p:spPr>
          <a:xfrm rot="20014200">
            <a:off x="3708360" y="2636640"/>
            <a:ext cx="576360" cy="649080"/>
          </a:xfrm>
          <a:custGeom>
            <a:avLst/>
            <a:gdLst>
              <a:gd name="textAreaLeft" fmla="*/ 0 w 576360"/>
              <a:gd name="textAreaRight" fmla="*/ 484560 w 576360"/>
              <a:gd name="textAreaTop" fmla="*/ 55224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16793" y="0"/>
                </a:moveTo>
                <a:lnTo>
                  <a:pt x="11985" y="7182"/>
                </a:lnTo>
                <a:lnTo>
                  <a:pt x="15436" y="7182"/>
                </a:lnTo>
                <a:lnTo>
                  <a:pt x="15436" y="18371"/>
                </a:lnTo>
                <a:lnTo>
                  <a:pt x="0" y="18371"/>
                </a:lnTo>
                <a:lnTo>
                  <a:pt x="0" y="21600"/>
                </a:lnTo>
                <a:lnTo>
                  <a:pt x="18149" y="21600"/>
                </a:lnTo>
                <a:lnTo>
                  <a:pt x="18149" y="7182"/>
                </a:lnTo>
                <a:lnTo>
                  <a:pt x="21600" y="7182"/>
                </a:lnTo>
                <a:lnTo>
                  <a:pt x="16793" y="0"/>
                </a:lnTo>
                <a:close/>
              </a:path>
            </a:pathLst>
          </a:custGeom>
          <a:solidFill>
            <a:srgbClr val="4584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3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0" descr="ARRWC012"/>
          <p:cNvPicPr/>
          <p:nvPr/>
        </p:nvPicPr>
        <p:blipFill>
          <a:blip r:embed="rId2"/>
          <a:stretch/>
        </p:blipFill>
        <p:spPr>
          <a:xfrm>
            <a:off x="1692360" y="18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1" descr="ARRWC012"/>
          <p:cNvPicPr/>
          <p:nvPr/>
        </p:nvPicPr>
        <p:blipFill>
          <a:blip r:embed="rId3"/>
          <a:stretch/>
        </p:blipFill>
        <p:spPr>
          <a:xfrm>
            <a:off x="4427640" y="1628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2" descr="ARRWC012"/>
          <p:cNvPicPr/>
          <p:nvPr/>
        </p:nvPicPr>
        <p:blipFill>
          <a:blip r:embed="rId4"/>
          <a:stretch/>
        </p:blipFill>
        <p:spPr>
          <a:xfrm rot="10672800">
            <a:off x="6876720" y="414936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3" descr="ARRWC012"/>
          <p:cNvPicPr/>
          <p:nvPr/>
        </p:nvPicPr>
        <p:blipFill>
          <a:blip r:embed="rId5"/>
          <a:stretch/>
        </p:blipFill>
        <p:spPr>
          <a:xfrm rot="10672800">
            <a:off x="6732360" y="54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5" descr="ARRWC012"/>
          <p:cNvPicPr/>
          <p:nvPr/>
        </p:nvPicPr>
        <p:blipFill>
          <a:blip r:embed="rId6"/>
          <a:stretch/>
        </p:blipFill>
        <p:spPr>
          <a:xfrm rot="10672800">
            <a:off x="0" y="5994000"/>
            <a:ext cx="655560" cy="8636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2"/>
          <p:cNvSpPr/>
          <p:nvPr/>
        </p:nvSpPr>
        <p:spPr>
          <a:xfrm>
            <a:off x="3564000" y="645156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4" descr="ARRWC012"/>
          <p:cNvPicPr/>
          <p:nvPr/>
        </p:nvPicPr>
        <p:blipFill>
          <a:blip r:embed="rId7"/>
          <a:stretch/>
        </p:blipFill>
        <p:spPr>
          <a:xfrm rot="10672800">
            <a:off x="3052440" y="599400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6" descr="ARRWC012"/>
          <p:cNvPicPr/>
          <p:nvPr/>
        </p:nvPicPr>
        <p:blipFill>
          <a:blip r:embed="rId8"/>
          <a:stretch/>
        </p:blipFill>
        <p:spPr>
          <a:xfrm rot="10672800">
            <a:off x="900000" y="4723560"/>
            <a:ext cx="655920" cy="863640"/>
          </a:xfrm>
          <a:prstGeom prst="rect">
            <a:avLst/>
          </a:prstGeom>
          <a:ln w="0">
            <a:noFill/>
          </a:ln>
        </p:spPr>
      </p:pic>
      <p:sp>
        <p:nvSpPr>
          <p:cNvPr id="588" name="Oval 57"/>
          <p:cNvSpPr/>
          <p:nvPr/>
        </p:nvSpPr>
        <p:spPr>
          <a:xfrm>
            <a:off x="6443640" y="1125360"/>
            <a:ext cx="2305080" cy="3589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8"/>
          <p:cNvSpPr/>
          <p:nvPr/>
        </p:nvSpPr>
        <p:spPr>
          <a:xfrm flipV="1">
            <a:off x="6300720" y="1483920"/>
            <a:ext cx="432000" cy="144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9" descr="ARRWC008"/>
          <p:cNvPicPr/>
          <p:nvPr/>
        </p:nvPicPr>
        <p:blipFill>
          <a:blip r:embed="rId9"/>
          <a:stretch/>
        </p:blipFill>
        <p:spPr>
          <a:xfrm rot="2505600">
            <a:off x="4716000" y="1916280"/>
            <a:ext cx="3049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2916360" y="1322280"/>
            <a:ext cx="1081080" cy="647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2268360" y="2257560"/>
            <a:ext cx="208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7"/>
          <p:cNvSpPr/>
          <p:nvPr/>
        </p:nvSpPr>
        <p:spPr>
          <a:xfrm>
            <a:off x="2195640" y="3213000"/>
            <a:ext cx="3732120" cy="1595520"/>
          </a:xfrm>
          <a:custGeom>
            <a:avLst/>
            <a:gdLst>
              <a:gd name="textAreaLeft" fmla="*/ 0 w 3732120"/>
              <a:gd name="textAreaRight" fmla="*/ 3732480 w 373212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987640" y="377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0e92d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9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4"/>
          <p:cNvGrpSpPr/>
          <p:nvPr/>
        </p:nvGrpSpPr>
        <p:grpSpPr>
          <a:xfrm>
            <a:off x="4500720" y="4986360"/>
            <a:ext cx="1344600" cy="1871640"/>
            <a:chOff x="4500720" y="4986360"/>
            <a:chExt cx="1344600" cy="1871640"/>
          </a:xfrm>
        </p:grpSpPr>
        <p:sp>
          <p:nvSpPr>
            <p:cNvPr id="600" name="Freeform 15"/>
            <p:cNvSpPr/>
            <p:nvPr/>
          </p:nvSpPr>
          <p:spPr>
            <a:xfrm>
              <a:off x="4500720" y="498636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6"/>
            <p:cNvSpPr/>
            <p:nvPr/>
          </p:nvSpPr>
          <p:spPr>
            <a:xfrm>
              <a:off x="4764240" y="499428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179280" y="6308640"/>
            <a:ext cx="244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341964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3419640" y="297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4932360" y="441792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 flipH="1">
            <a:off x="262728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4"/>
          <p:cNvSpPr/>
          <p:nvPr/>
        </p:nvSpPr>
        <p:spPr>
          <a:xfrm rot="4645800">
            <a:off x="6338520" y="2454120"/>
            <a:ext cx="497160" cy="287280"/>
          </a:xfrm>
          <a:custGeom>
            <a:avLst/>
            <a:gdLst>
              <a:gd name="textAreaLeft" fmla="*/ 286200 w 497160"/>
              <a:gd name="textAreaRight" fmla="*/ 435600 w 497160"/>
              <a:gd name="textAreaTop" fmla="*/ 50400 h 287280"/>
              <a:gd name="textAreaBottom" fmla="*/ 11088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438" y="0"/>
                </a:lnTo>
                <a:lnTo>
                  <a:pt x="14438" y="3808"/>
                </a:lnTo>
                <a:lnTo>
                  <a:pt x="12427" y="3808"/>
                </a:lnTo>
                <a:cubicBezTo>
                  <a:pt x="5564" y="3808"/>
                  <a:pt x="0" y="7546"/>
                  <a:pt x="0" y="12158"/>
                </a:cubicBezTo>
                <a:lnTo>
                  <a:pt x="0" y="21600"/>
                </a:lnTo>
                <a:lnTo>
                  <a:pt x="4642" y="21600"/>
                </a:lnTo>
                <a:lnTo>
                  <a:pt x="4642" y="12158"/>
                </a:lnTo>
                <a:cubicBezTo>
                  <a:pt x="4642" y="10055"/>
                  <a:pt x="8127" y="8350"/>
                  <a:pt x="12427" y="8350"/>
                </a:cubicBezTo>
                <a:lnTo>
                  <a:pt x="14438" y="8350"/>
                </a:lnTo>
                <a:lnTo>
                  <a:pt x="1443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53964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Obstrucción B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9"/>
          <p:cNvSpPr/>
          <p:nvPr/>
        </p:nvSpPr>
        <p:spPr>
          <a:xfrm>
            <a:off x="4859280" y="4149720"/>
            <a:ext cx="863640" cy="792000"/>
          </a:xfrm>
          <a:custGeom>
            <a:avLst/>
            <a:gdLst>
              <a:gd name="textAreaLeft" fmla="*/ 126360 w 863640"/>
              <a:gd name="textAreaRight" fmla="*/ 737280 w 86364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885080" y="4005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8028000" y="5013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1908000" y="5013360"/>
            <a:ext cx="72108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385128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82692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6" descr="AR100001"/>
          <p:cNvPicPr/>
          <p:nvPr/>
        </p:nvPicPr>
        <p:blipFill>
          <a:blip r:embed="rId1"/>
          <a:stretch/>
        </p:blipFill>
        <p:spPr>
          <a:xfrm rot="16200000">
            <a:off x="4294800" y="1834200"/>
            <a:ext cx="968400" cy="414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7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1403280" y="1844640"/>
            <a:ext cx="935280" cy="9169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4584d3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49"/>
          <p:cNvSpPr/>
          <p:nvPr/>
        </p:nvSpPr>
        <p:spPr>
          <a:xfrm>
            <a:off x="6588000" y="1125360"/>
            <a:ext cx="2016360" cy="432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ca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0" descr="ARRWC220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4572000" y="2349360"/>
            <a:ext cx="865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68360" y="2204640"/>
            <a:ext cx="8229600" cy="394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osíntesis del ácido </a:t>
            </a:r>
            <a:r>
              <a:rPr b="0" lang="es-ES" sz="32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-Aminolevulínic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Formación de Porf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Conversión de Porfobilinógeno en Hem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En la biosíntesis del HEMO se consideran 3 etapas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BIOSINTESIS DE ALA             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 (Acido </a:t>
            </a:r>
            <a:r>
              <a:rPr b="0" lang="es-E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-Aminolevulínico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43" name="Object 23"/>
          <p:cNvGraphicFramePr/>
          <p:nvPr/>
        </p:nvGraphicFramePr>
        <p:xfrm>
          <a:off x="851040" y="2646360"/>
          <a:ext cx="353376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646360"/>
                    <a:ext cx="353376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25"/>
          <p:cNvGraphicFramePr/>
          <p:nvPr/>
        </p:nvGraphicFramePr>
        <p:xfrm>
          <a:off x="5784840" y="2695680"/>
          <a:ext cx="2819520" cy="27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2695680"/>
                    <a:ext cx="28195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12"/>
          <p:cNvSpPr/>
          <p:nvPr/>
        </p:nvSpPr>
        <p:spPr>
          <a:xfrm>
            <a:off x="811080" y="5589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987640" y="4219560"/>
            <a:ext cx="1325520" cy="8254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AS-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035080" y="5589720"/>
            <a:ext cx="18003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160800" y="3303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A-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588000" y="5445000"/>
            <a:ext cx="2016360" cy="52056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7"/>
          <p:cNvSpPr/>
          <p:nvPr/>
        </p:nvSpPr>
        <p:spPr>
          <a:xfrm>
            <a:off x="690480" y="4118040"/>
            <a:ext cx="115272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6012000" y="3392640"/>
            <a:ext cx="647640" cy="50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 rot="19913400">
            <a:off x="3636000" y="4723920"/>
            <a:ext cx="2916360" cy="8254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1" i="1" lang="es-ES" sz="2400" spc="-1" strike="noStrike">
                <a:solidFill>
                  <a:srgbClr val="073e87"/>
                </a:solidFill>
                <a:latin typeface="Arial"/>
                <a:ea typeface="Arial"/>
              </a:rPr>
              <a:t>-Aminolevulinat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5076720" y="6093000"/>
            <a:ext cx="3816360" cy="765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.DELT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IN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VU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0"/>
          <p:cNvSpPr/>
          <p:nvPr/>
        </p:nvSpPr>
        <p:spPr>
          <a:xfrm>
            <a:off x="3635280" y="16272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7067520" y="4761000"/>
            <a:ext cx="1366920" cy="649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nzima  alostérica mitocondrial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ontrola la velocidad de síntesis de porfiri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inhibida por el hemo, Hemoglobina y Hemoproteí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activada por hormonas esteroides, eritropoyetina, etanol y barbituratos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73e87"/>
                </a:solidFill>
                <a:latin typeface="Candara"/>
              </a:rPr>
              <a:t>El hemo inhibe la transcripción de la enzi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ALA SINTAS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BIOSINTESIS DE PORFOBILINOGEN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1" name="Object 9"/>
          <p:cNvGraphicFramePr/>
          <p:nvPr/>
        </p:nvGraphicFramePr>
        <p:xfrm>
          <a:off x="34920" y="1600200"/>
          <a:ext cx="36878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00200"/>
                    <a:ext cx="36878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7"/>
          <p:cNvSpPr/>
          <p:nvPr/>
        </p:nvSpPr>
        <p:spPr>
          <a:xfrm>
            <a:off x="3492360" y="4292640"/>
            <a:ext cx="2160720" cy="7038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rfobilin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971640" y="5805360"/>
            <a:ext cx="7272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zima sensible al envenenamiento por metales p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5"/>
          <p:cNvGrpSpPr/>
          <p:nvPr/>
        </p:nvGrpSpPr>
        <p:grpSpPr>
          <a:xfrm>
            <a:off x="5691240" y="1989000"/>
            <a:ext cx="3452760" cy="3628440"/>
            <a:chOff x="5691240" y="1989000"/>
            <a:chExt cx="3452760" cy="3628440"/>
          </a:xfrm>
        </p:grpSpPr>
        <p:graphicFrame>
          <p:nvGraphicFramePr>
            <p:cNvPr id="366" name="Object 11"/>
            <p:cNvGraphicFramePr/>
            <p:nvPr/>
          </p:nvGraphicFramePr>
          <p:xfrm>
            <a:off x="5691240" y="1989000"/>
            <a:ext cx="3452760" cy="328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1240" y="198900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Text Box 5"/>
            <p:cNvSpPr/>
            <p:nvPr/>
          </p:nvSpPr>
          <p:spPr>
            <a:xfrm>
              <a:off x="5796000" y="515772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AutoShape 13"/>
          <p:cNvSpPr/>
          <p:nvPr/>
        </p:nvSpPr>
        <p:spPr>
          <a:xfrm>
            <a:off x="3780000" y="3716280"/>
            <a:ext cx="2016000" cy="289080"/>
          </a:xfrm>
          <a:prstGeom prst="rightArrow">
            <a:avLst>
              <a:gd name="adj1" fmla="val 50000"/>
              <a:gd name="adj2" fmla="val 174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4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FORMACION DE PORFIR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72" name="Group 5"/>
          <p:cNvGrpSpPr/>
          <p:nvPr/>
        </p:nvGrpSpPr>
        <p:grpSpPr>
          <a:xfrm>
            <a:off x="250920" y="2717640"/>
            <a:ext cx="3452760" cy="3628440"/>
            <a:chOff x="250920" y="2717640"/>
            <a:chExt cx="3452760" cy="3628440"/>
          </a:xfrm>
        </p:grpSpPr>
        <p:graphicFrame>
          <p:nvGraphicFramePr>
            <p:cNvPr id="373" name="Object 2"/>
            <p:cNvGraphicFramePr/>
            <p:nvPr/>
          </p:nvGraphicFramePr>
          <p:xfrm>
            <a:off x="250920" y="2717640"/>
            <a:ext cx="3452760" cy="328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271764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7"/>
            <p:cNvSpPr/>
            <p:nvPr/>
          </p:nvSpPr>
          <p:spPr>
            <a:xfrm>
              <a:off x="355680" y="588636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8"/>
          <p:cNvSpPr/>
          <p:nvPr/>
        </p:nvSpPr>
        <p:spPr>
          <a:xfrm>
            <a:off x="179280" y="3797280"/>
            <a:ext cx="577800" cy="792360"/>
          </a:xfrm>
          <a:prstGeom prst="rect">
            <a:avLst/>
          </a:prstGeom>
          <a:solidFill>
            <a:srgbClr val="e0e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3708360" y="45910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5003640" y="4157640"/>
            <a:ext cx="3095640" cy="1015920"/>
          </a:xfrm>
          <a:prstGeom prst="rect">
            <a:avLst/>
          </a:prstGeom>
          <a:solidFill>
            <a:srgbClr val="e0e92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NI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ETRAPIRR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959280" y="5742000"/>
            <a:ext cx="518472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. Se elimina el grupo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de la cadena lateral y se forman puentes metil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7"/>
          <p:cNvGrpSpPr/>
          <p:nvPr/>
        </p:nvGrpSpPr>
        <p:grpSpPr>
          <a:xfrm>
            <a:off x="200520" y="1616040"/>
            <a:ext cx="1536840" cy="1828440"/>
            <a:chOff x="200520" y="1616040"/>
            <a:chExt cx="1536840" cy="1828440"/>
          </a:xfrm>
        </p:grpSpPr>
        <p:sp>
          <p:nvSpPr>
            <p:cNvPr id="381" name="Oval 12"/>
            <p:cNvSpPr/>
            <p:nvPr/>
          </p:nvSpPr>
          <p:spPr>
            <a:xfrm rot="21075000">
              <a:off x="285480" y="1712520"/>
              <a:ext cx="1366560" cy="1223640"/>
            </a:xfrm>
            <a:prstGeom prst="ellipse">
              <a:avLst/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 rot="21075000">
              <a:off x="992880" y="292608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1774800" y="1153440"/>
            <a:ext cx="1594080" cy="1856880"/>
            <a:chOff x="1774800" y="1153440"/>
            <a:chExt cx="1594080" cy="1856880"/>
          </a:xfrm>
        </p:grpSpPr>
        <p:sp>
          <p:nvSpPr>
            <p:cNvPr id="384" name="Oval 13"/>
            <p:cNvSpPr/>
            <p:nvPr/>
          </p:nvSpPr>
          <p:spPr>
            <a:xfrm rot="730200">
              <a:off x="1888200" y="1283400"/>
              <a:ext cx="1366560" cy="1224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I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5"/>
            <p:cNvSpPr/>
            <p:nvPr/>
          </p:nvSpPr>
          <p:spPr>
            <a:xfrm rot="730200">
              <a:off x="2282040" y="248832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SINTESIS DE PROTOFORFIRINA III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324000" y="170964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324000" y="4292640"/>
            <a:ext cx="136656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P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2916360" y="177336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ET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1332000" y="2349360"/>
            <a:ext cx="1511280" cy="1224000"/>
            <a:chOff x="1332000" y="2349360"/>
            <a:chExt cx="1511280" cy="1224000"/>
          </a:xfrm>
        </p:grpSpPr>
        <p:sp>
          <p:nvSpPr>
            <p:cNvPr id="391" name="AutoShape 12"/>
            <p:cNvSpPr/>
            <p:nvPr/>
          </p:nvSpPr>
          <p:spPr>
            <a:xfrm rot="3535200">
              <a:off x="1870920" y="2529720"/>
              <a:ext cx="504720" cy="287280"/>
            </a:xfrm>
            <a:custGeom>
              <a:avLst/>
              <a:gdLst>
                <a:gd name="textAreaLeft" fmla="*/ 88200 w 504720"/>
                <a:gd name="textAreaRight" fmla="*/ 366120 w 504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0"/>
            <p:cNvSpPr/>
            <p:nvPr/>
          </p:nvSpPr>
          <p:spPr>
            <a:xfrm>
              <a:off x="1835280" y="2349360"/>
              <a:ext cx="1008000" cy="358920"/>
            </a:xfrm>
            <a:prstGeom prst="rightArrow">
              <a:avLst>
                <a:gd name="adj1" fmla="val 50000"/>
                <a:gd name="adj2" fmla="val 70211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"/>
            <p:cNvSpPr/>
            <p:nvPr/>
          </p:nvSpPr>
          <p:spPr>
            <a:xfrm>
              <a:off x="1763640" y="2997360"/>
              <a:ext cx="720720" cy="576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332000" y="3141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AutoShape 17"/>
          <p:cNvSpPr/>
          <p:nvPr/>
        </p:nvSpPr>
        <p:spPr>
          <a:xfrm rot="3535200">
            <a:off x="1957320" y="5052960"/>
            <a:ext cx="565200" cy="355680"/>
          </a:xfrm>
          <a:custGeom>
            <a:avLst/>
            <a:gdLst>
              <a:gd name="textAreaLeft" fmla="*/ 98640 w 565200"/>
              <a:gd name="textAreaRight" fmla="*/ 409680 w 56520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1882800" y="4869000"/>
            <a:ext cx="1249200" cy="401400"/>
          </a:xfrm>
          <a:prstGeom prst="rightArrow">
            <a:avLst>
              <a:gd name="adj1" fmla="val 50000"/>
              <a:gd name="adj2" fmla="val 7780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1692360" y="5661000"/>
            <a:ext cx="3024000" cy="792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y OXI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258920" y="5754600"/>
            <a:ext cx="4460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1"/>
          <p:cNvSpPr/>
          <p:nvPr/>
        </p:nvSpPr>
        <p:spPr>
          <a:xfrm>
            <a:off x="3492360" y="4365720"/>
            <a:ext cx="136692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N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2" descr="BIOSINTESIS DEL HEM"/>
          <p:cNvPicPr/>
          <p:nvPr/>
        </p:nvPicPr>
        <p:blipFill>
          <a:blip r:embed="rId1"/>
          <a:srcRect l="56118" t="74599" r="-3902" b="0"/>
          <a:stretch/>
        </p:blipFill>
        <p:spPr>
          <a:xfrm>
            <a:off x="5148360" y="1628640"/>
            <a:ext cx="36352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BIOSINTESIS DEL HEM"/>
          <p:cNvPicPr/>
          <p:nvPr/>
        </p:nvPicPr>
        <p:blipFill>
          <a:blip r:embed="rId1"/>
          <a:srcRect l="56118" t="41739" r="-3902" b="31177"/>
          <a:stretch/>
        </p:blipFill>
        <p:spPr>
          <a:xfrm>
            <a:off x="5329080" y="1916280"/>
            <a:ext cx="40672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402" name="9 Grupo"/>
          <p:cNvGrpSpPr/>
          <p:nvPr/>
        </p:nvGrpSpPr>
        <p:grpSpPr>
          <a:xfrm>
            <a:off x="108000" y="1916280"/>
            <a:ext cx="3635280" cy="4098240"/>
            <a:chOff x="108000" y="1916280"/>
            <a:chExt cx="3635280" cy="4098240"/>
          </a:xfrm>
        </p:grpSpPr>
        <p:pic>
          <p:nvPicPr>
            <p:cNvPr id="403" name="Picture 4" descr="BIOSINTESIS DEL HEM"/>
            <p:cNvPicPr/>
            <p:nvPr/>
          </p:nvPicPr>
          <p:blipFill>
            <a:blip r:embed="rId2"/>
            <a:srcRect l="56118" t="74599" r="-3902" b="0"/>
            <a:stretch/>
          </p:blipFill>
          <p:spPr>
            <a:xfrm>
              <a:off x="108000" y="1916280"/>
              <a:ext cx="3635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"/>
            <p:cNvSpPr/>
            <p:nvPr/>
          </p:nvSpPr>
          <p:spPr>
            <a:xfrm>
              <a:off x="250560" y="555480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porfirina 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7"/>
          <p:cNvSpPr/>
          <p:nvPr/>
        </p:nvSpPr>
        <p:spPr>
          <a:xfrm>
            <a:off x="6156360" y="5373720"/>
            <a:ext cx="2160720" cy="45972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AR100001"/>
          <p:cNvPicPr/>
          <p:nvPr/>
        </p:nvPicPr>
        <p:blipFill>
          <a:blip r:embed="rId3"/>
          <a:stretch/>
        </p:blipFill>
        <p:spPr>
          <a:xfrm>
            <a:off x="3564000" y="3789360"/>
            <a:ext cx="1704960" cy="5317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 rot="18481200">
            <a:off x="3514680" y="2611080"/>
            <a:ext cx="219528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erroquel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995640" y="5157720"/>
            <a:ext cx="936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Fe</a:t>
            </a:r>
            <a:r>
              <a:rPr b="1" lang="es-ES" sz="20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1" descr="ARRWC064"/>
          <p:cNvPicPr/>
          <p:nvPr/>
        </p:nvPicPr>
        <p:blipFill>
          <a:blip r:embed="rId4"/>
          <a:stretch/>
        </p:blipFill>
        <p:spPr>
          <a:xfrm rot="20125800">
            <a:off x="3630600" y="4224240"/>
            <a:ext cx="7081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20:56:51Z</dcterms:created>
  <dc:creator>Irma</dc:creator>
  <dc:description/>
  <dc:language>en-US</dc:language>
  <cp:lastModifiedBy>ethel</cp:lastModifiedBy>
  <dcterms:modified xsi:type="dcterms:W3CDTF">2015-06-12T14:46:21Z</dcterms:modified>
  <cp:revision>95</cp:revision>
  <dc:subject/>
  <dc:title>Diapositiva 1</dc:title>
</cp:coreProperties>
</file>